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7.wmf" ContentType="image/x-wmf"/>
  <Override PartName="/ppt/media/image11.png" ContentType="image/png"/>
  <Override PartName="/ppt/media/image10.wmf" ContentType="image/x-wmf"/>
  <Override PartName="/ppt/media/image4.jpeg" ContentType="image/jpeg"/>
  <Override PartName="/ppt/media/image25.png" ContentType="image/png"/>
  <Override PartName="/ppt/media/image8.wmf" ContentType="image/x-wmf"/>
  <Override PartName="/ppt/media/image13.png" ContentType="image/png"/>
  <Override PartName="/ppt/media/image6.jpeg" ContentType="image/jpeg"/>
  <Override PartName="/ppt/media/image9.wmf" ContentType="image/x-wmf"/>
  <Override PartName="/ppt/media/image14.png" ContentType="image/png"/>
  <Override PartName="/ppt/media/image5.jpeg" ContentType="image/jpeg"/>
  <Override PartName="/ppt/media/image3.png" ContentType="image/png"/>
  <Override PartName="/ppt/media/image26.png" ContentType="image/png"/>
  <Override PartName="/ppt/media/image2.jpeg" ContentType="image/jpe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1124-E6E0-4A2B-8865-6A2149EF7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3DA1-4644-44D1-ADA9-65CA0E5C9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2BB9-2511-4AB1-812A-ACBD30CAB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9BD5-A1EC-45A4-862A-06E600C6E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D00D-AFAE-4FB3-99ED-D819F3B6A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45BBF-BA9D-4C98-8701-440083CA8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EABA8-4123-4E60-BF98-1205F48CD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9BD7BBC-49D6-4D60-A30C-ADE68BF66A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2AFB6BB-6FD0-4FA6-83D9-36079A81DF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EF18EBB-ABCC-4151-9986-CA148F84EA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E4CC6EC-61E7-44A1-B569-FA96F90BF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187FC03-62A8-4784-BDF4-BCD7722BB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2BF66B4-6E93-4605-852E-CAAD57AA1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CA98682-5704-4CDA-A475-F62FA748BF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33DA1F1-68C4-41F4-AE9B-421B853773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6E6DF4F-3795-43A4-97B2-1D722F113C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54D8CEB4-54F5-4D87-B593-27A85D6520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D20FA-2F96-4716-9191-CC37AB32C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41EECAB-E5D7-44EC-8A26-E318A5C184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57EAA92-DA3D-4674-A943-50357B3F9A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83B1C1E-1FE7-4F33-A1B8-1358984915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F799660-A7D7-4782-B42F-DE90DD5FE4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DCF30D5-4860-4208-9884-F8E992E1B5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551BCAE-5A53-4648-AAB5-E7F1D73DFB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A2159E6-985E-4E48-A9B6-C4424C26B2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AA21907-F21C-4A18-BE09-2AB36944C9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35A237C-DAF4-4D9F-8574-D05142B7CA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9DBF306-4111-468E-B622-1740F20344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7BCBF-C868-44A7-A32A-F399D9AEC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D3C4CC4A-441D-4198-982B-4B26278275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9D6D79FA-97F2-4D4D-9EEA-AA263D97C5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8921151-8800-4DFF-B9B4-7A557848EB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FE1F8EE-59B7-4CF7-89D3-20B85FAFDB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9088FC6-7127-4FF3-A32D-C2E4137B04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08C8F27-F3C2-4F1F-9392-562AA401D4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4183897-83E8-4E8D-9D98-85359E164E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8CBFFC6-2033-45CD-AAD2-A99FB3B489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E05D8C6-B927-417C-81B2-46A6344D64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0673903-6F90-4C42-8B71-2DB2B64855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4107A-3C83-4C63-98B2-50726DDD4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7D8590F-15CD-4F69-AA9D-024CF3AE14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40C9E2D-3F58-4C8D-A7B1-BF2E97B677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69AE61D2-1F23-4BE0-A72A-6D1067CFC3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87DB281E-4922-4C8A-BE8E-D9CF7A67BE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0FE93FB-29E0-4F73-9E3B-3213649217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B22120B-2C81-4091-9F0C-4653C2271E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365071F-16BB-480F-AD07-16FF8E8EDD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0E3F62F-8B73-4D2D-B3D4-6023B7CA3C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24860C7-E46A-4F02-81E8-ECEC9AB1A0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C0540DE-CB45-4158-820F-8580CBDA3F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E1D28-179E-4EAA-9EEE-1E57B2C15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ED54DD5-9E27-4133-98CF-9339484578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50F3EE4-F6EE-4656-AD67-721812F85F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8A12CC6-7323-4F5A-B7A2-B4AF87F4AE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67C8E09-61D2-4123-AF24-01C62EE8FB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4598288-0781-4E77-9B94-1776E5E86A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92E2B4-1FD8-446C-97B0-FDB63C4996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D32587-A74F-4878-A2B4-BCE61DAFFA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97ADD7-6DD4-4DBD-B876-406E11BAAE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661FF0-EEC6-43EF-93D0-364A09D641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8952B2-53AF-416C-B32B-38A7F7DAC5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69782-7C97-44BA-99E4-5CB9742BA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A919B4-3B7B-44D3-A4E6-272497E0A1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098A31-3894-4171-B7BE-27EF02CD32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731DED-A6DE-4066-81B4-8408F27162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DDE8D0-782C-4036-A779-79EE4F0EE6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496278-0261-4B69-90E6-10A3490089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8CA9BD4-3586-48F7-B606-AB3E626EBE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2C3AF2-9D35-44DF-972D-DFD9A8D02CC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0"/>
          </p:nvPr>
        </p:nvSpPr>
        <p:spPr/>
        <p:txBody>
          <a:bodyPr/>
          <a:p>
            <a:fld id="{840B2EC1-DD8E-46A6-8B7C-71CEDDE2635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FC1A806B-2DEC-41A4-9449-AA6D8A4CEF4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42AE7DA6-4DF7-4979-97EB-AA9677179E5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C977A-E8A2-4F57-9E02-5BB815529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28EC0D32-6A04-44EA-A907-F27FA18895D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A337DFE8-2380-45EE-A710-3E14EEF0F1A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F9942809-95FF-4B84-B30D-AD8668687E6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45567E25-C5BA-4ED0-90B8-0BA90F24854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AAE6010A-523F-4CB4-8AEC-938F98ECAC2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C39507BE-22CF-45BC-B23E-32A682D7BF7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6A2348E9-20FF-4E82-B9BB-E284DE1E510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0"/>
          </p:nvPr>
        </p:nvSpPr>
        <p:spPr/>
        <p:txBody>
          <a:bodyPr/>
          <a:p>
            <a:fld id="{FF0BA519-AD85-4D0B-A0B3-710A8D5AFB1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0"/>
          </p:nvPr>
        </p:nvSpPr>
        <p:spPr/>
        <p:txBody>
          <a:bodyPr/>
          <a:p>
            <a:fld id="{2845449E-3684-41AD-86DA-CABDA023778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33C07E6-4A93-4CC5-A467-B80B6BA107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3988F-D65A-4E70-A58A-B13F61DC5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B0148D-11FE-436D-A3C3-2CFA0134AF6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838039-6053-47E0-B25A-864EE1C5B3E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14865E-1F81-44E4-BF27-E3D635B8B1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5C3E68-BBAE-49B9-9815-C08D03F772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06626C-573A-499E-88DA-AA96CD710A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30126F-F7C6-43E9-BEDE-9D45BD528D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9DF204-24C5-41B3-853F-571D6DB6EF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40D4EA-7776-4357-8339-9DF96E08CE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15BED5-C795-4B3D-91F5-EBC462E306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991158-ACCE-464F-91F1-CC0930BF9F3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6DA30-04E1-4941-A8D4-76D503484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CD0B0C2-04C6-4279-B139-F0ADF724AB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474A5-943C-4118-8565-B59B4A60A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3E577-683A-405D-9B58-084D3EEC1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5D2F-9500-4686-A713-BA92E97B8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78B3C-B887-4828-9B34-C94318AF1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4CA03-DC38-4CDD-85E2-F509F6B87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71A9D-B9A5-4B8C-9A97-E8E164690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3E8DA-82F1-4C39-96DB-7EB500B51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2380A3-33C2-4BF2-A15D-E0AFC4F320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F86C0-926B-43CF-9980-90701A57C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3D3C2-B162-437E-9FE8-09AE38EA2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801A2-E44A-49E2-947D-B82DFDA3D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C2358-7565-4C39-B18C-64F19A016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7E181-1843-4D9C-BAB2-FDE640EA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4765E-F147-4C46-977F-F255CDD13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8D360-263A-4737-AAFF-026B7FA3A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153B2-F817-4BF7-8D63-2D1620A3A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F7143-CD18-4018-8472-CFA760D39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4BF86A-0326-489D-B009-40D850959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73C298-D995-471A-AFF3-22B72FC47B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44F17-8773-4D18-A8FE-B94FECCF99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28E0AB-D5F0-4F93-9CFD-6970E238A0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14E35-4984-4061-A889-C45E76778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2D4899-7981-4C67-8B85-0BF0B590F1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5102-2E5C-4429-AA8B-1C954C5D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22BE3-B814-4B2E-B86F-C9F6D2A546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F0272-377E-4981-93B6-9DC132645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7427E-51DC-4138-8401-9F7522A58D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2E039-8F3B-4300-8D35-18E4800E3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772BD-4202-4046-96F9-9A259D8A0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197CA-3245-4D13-BA0D-B2E12EACD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B8606-B7F8-4C9C-8348-577723C24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0AB193-6736-4B69-82B9-E32B25266B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6E3DFA-AF3F-432F-9ACF-3B84B59814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CAF3DA-C09D-4E8C-8DDC-1C1B43D72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45DF2-48E6-4440-B2FC-3BBD81725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2AAC9-A1CF-417B-8DBD-1C53692D7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AFC370-951C-43E6-8E57-D39B57971B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E7C12-EB92-4D17-9DB5-86B63B9AD7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5D632-568C-478D-BED2-6260B9C34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BA18A-5093-4BD1-BB9C-1BA4C4176B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DD26A-D68C-4A47-9DF1-5DFBE5E2D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EEF8A-2885-48DF-85A5-ED769FC5C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A84F2F-F75A-4324-8818-749ACE772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99564-430D-4CD7-B079-B7B3DCB6C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D6F43C-CA6E-444B-93AF-DC880F0FC0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C8444-1843-41D5-BDB7-8C960EDD9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A5374-FED1-463A-893F-531A2FD4A5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C2082B-055E-428B-9B1F-26ADA2C751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16B20-934F-4A11-93F2-06CF02BC5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FB9F0-2FFB-471B-BEB8-406C7993DD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6F3F3D-8653-4749-8388-57DE657749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5F3FD0-7CEF-4865-8A11-00CC6875F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D22D97-FF60-4E0A-829F-4EA51DB86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408C3-2A06-4928-AA9B-6E8D6B93B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9D8D6-667B-4BCB-850D-9AEEB0E1E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A8AE3-8FE0-4CEC-93E8-DBA66FC18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748E-8802-4AA7-9A7D-CC041E726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8A0D5B-058D-4459-A733-67EE52880C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20C5E3-A986-4FA9-B27D-87024BF2EB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E5E840-606F-4BFC-98C3-F9C61D55D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C032DC9-046D-45D2-8581-8B3FE54C32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91603FB-36FE-4B84-9C0D-428E9E593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A784DBA-380F-4DED-914C-B0458ACA31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11B9044-45DF-4E67-B8DF-229075C3E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252060-4B0D-46DC-B164-30F557FE34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88B459-7680-4F41-A853-DCBDA9121F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5479C46-6094-44F4-964B-D69A746BF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5B48-87A6-4897-B23C-F53A1BC2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D0CC4F-9BAD-41B6-B648-E2BAD5A0F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240288-6E00-4BB1-82DD-A7047CF1A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D05C71-8080-458E-92A0-0263FB62E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AD579BB-CFA9-4BDD-98D8-03FA5C448F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CC19928-ED6F-4E25-BCEC-2985A9F29E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DE8F12-5E46-4A3C-B84C-488329E16C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B86F5-E672-4A7E-8961-3F11AD7BAD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D3DF2-89D8-4D78-8A1C-283216F5EC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58CA4-9D3F-4383-8243-4412842453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EE635-E59A-4608-AD98-82C005B7C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D397-6B8A-459C-980D-01E771F6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43F2AB-584A-4071-BCD7-21D08F46F3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F1D6C-34D4-4DED-A125-A380FAB1EB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B06792-AFAF-4AD2-82E9-A45CAACE9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7F739-E61E-49EE-B047-A722D6609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4FB638-59DD-4A5E-9140-56A9409B4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447A85-D13C-4E03-B161-F14988766E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F812AD-8ECA-40DD-ADA1-F415ED9DFD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381AFF5-E737-4478-AC2F-17098A519C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289D110-781E-4442-B8EA-9289182E94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F38DFD7-C987-4180-936F-46E9D4C23F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6EA1-AB38-4C56-8791-EFDC8D7F08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8"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29"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5498-D106-481E-B5B4-DB37F9EE64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0"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76"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77"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AD7A-5A25-44E8-BAF3-F3E5DA38D7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8"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1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20" name="PlaceHolder 3"/>
          <p:cNvSpPr>
            <a:spLocks noGrp="1"/>
          </p:cNvSpPr>
          <p:nvPr>
            <p:ph type="dt" idx="3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521" name="PlaceHolder 4"/>
          <p:cNvSpPr>
            <a:spLocks noGrp="1"/>
          </p:cNvSpPr>
          <p:nvPr>
            <p:ph type="sldNum" idx="3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48C2-DA75-4F69-A4BD-D576B97111E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522" name="PlaceHolder 5"/>
          <p:cNvSpPr>
            <a:spLocks noGrp="1"/>
          </p:cNvSpPr>
          <p:nvPr>
            <p:ph type="ftr" idx="3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9"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62" name="PlaceHolder 3"/>
          <p:cNvSpPr>
            <a:spLocks noGrp="1"/>
          </p:cNvSpPr>
          <p:nvPr>
            <p:ph type="dt" idx="3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563" name="PlaceHolder 4"/>
          <p:cNvSpPr>
            <a:spLocks noGrp="1"/>
          </p:cNvSpPr>
          <p:nvPr>
            <p:ph type="ftr" idx="3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5"/>
          <p:cNvSpPr>
            <a:spLocks noGrp="1"/>
          </p:cNvSpPr>
          <p:nvPr>
            <p:ph type="sldNum" idx="3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1ADD-5D6E-404F-8CCE-D078132EBB2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0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05" name="PlaceHolder 3"/>
          <p:cNvSpPr>
            <a:spLocks noGrp="1"/>
          </p:cNvSpPr>
          <p:nvPr>
            <p:ph type="sldNum" idx="4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81E8-6EE5-4012-888C-D961FAC51E3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606" name="PlaceHolder 4"/>
          <p:cNvSpPr>
            <a:spLocks noGrp="1"/>
          </p:cNvSpPr>
          <p:nvPr>
            <p:ph type="ftr" idx="4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5"/>
          <p:cNvSpPr>
            <a:spLocks noGrp="1"/>
          </p:cNvSpPr>
          <p:nvPr>
            <p:ph type="dt" idx="4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64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646" name="PlaceHolder 3"/>
          <p:cNvSpPr>
            <a:spLocks noGrp="1"/>
          </p:cNvSpPr>
          <p:nvPr>
            <p:ph type="dt" idx="43"/>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647" name="PlaceHolder 4"/>
          <p:cNvSpPr>
            <a:spLocks noGrp="1"/>
          </p:cNvSpPr>
          <p:nvPr>
            <p:ph type="ftr" idx="4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D9AC-A43B-4E18-AC34-D494E78CFF34}"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2CBC-DE7A-4EA7-8040-0813A5FD2A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6FBB-0807-4C3C-9E5B-5296661C42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E1C8-186C-49A0-A7E3-215FCF0A4A3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7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72" name="PlaceHolder 3"/>
          <p:cNvSpPr>
            <a:spLocks noGrp="1"/>
          </p:cNvSpPr>
          <p:nvPr>
            <p:ph type="dt" idx="13"/>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19E8-664D-40FD-B87D-1F5C75C97E23}"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9" name="PlaceHolder 3"/>
          <p:cNvSpPr>
            <a:spLocks noGrp="1"/>
          </p:cNvSpPr>
          <p:nvPr>
            <p:ph type="dt" idx="16"/>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30" name="PlaceHolder 4"/>
          <p:cNvSpPr>
            <a:spLocks noGrp="1"/>
          </p:cNvSpPr>
          <p:nvPr>
            <p:ph type="ftr" idx="1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5CB3-AF5C-49BA-9F7B-6949DED12E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7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083E-2187-4971-8716-35545C8188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15"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33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33" name="PlaceHolder 3"/>
          <p:cNvSpPr>
            <a:spLocks noGrp="1"/>
          </p:cNvSpPr>
          <p:nvPr>
            <p:ph type="dt" idx="22"/>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334" name="PlaceHolder 4"/>
          <p:cNvSpPr>
            <a:spLocks noGrp="1"/>
          </p:cNvSpPr>
          <p:nvPr>
            <p:ph type="ftr" idx="2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CE31-34DF-4A6C-A27A-9413FAFBAD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7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0"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9718-AD23-42AE-8D1B-4C0B3FF2E9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2"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914400"/>
            <a:ext cx="83055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88b"/>
                </a:solidFill>
                <a:latin typeface="Calibri"/>
              </a:rPr>
              <a:t>GRAPHICAL SHARE MARKET DATA REPRESENTATION</a:t>
            </a:r>
            <a:br>
              <a:rPr sz="3600"/>
            </a:br>
            <a:endParaRPr b="0" lang="en-US" sz="3600" spc="-1" strike="noStrike">
              <a:solidFill>
                <a:srgbClr val="000000"/>
              </a:solidFill>
              <a:latin typeface="Calibri"/>
            </a:endParaRPr>
          </a:p>
        </p:txBody>
      </p:sp>
      <p:sp>
        <p:nvSpPr>
          <p:cNvPr id="693" name="TextBox 2"/>
          <p:cNvSpPr/>
          <p:nvPr/>
        </p:nvSpPr>
        <p:spPr>
          <a:xfrm>
            <a:off x="5486400" y="281952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V.SRI KARAN RED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VARSHA NIHANTH</a:t>
            </a:r>
            <a:endParaRPr b="0" lang="en-US" sz="2400" spc="-1" strike="noStrike">
              <a:solidFill>
                <a:srgbClr val="000000"/>
              </a:solidFill>
              <a:latin typeface="Arial"/>
            </a:endParaRPr>
          </a:p>
        </p:txBody>
      </p:sp>
      <p:sp>
        <p:nvSpPr>
          <p:cNvPr id="694" name="TextBox 3"/>
          <p:cNvSpPr/>
          <p:nvPr/>
        </p:nvSpPr>
        <p:spPr>
          <a:xfrm>
            <a:off x="1143000" y="4495680"/>
            <a:ext cx="7696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Under the guidance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     </a:t>
            </a:r>
            <a:r>
              <a:rPr b="0" lang="en-US" sz="2800" spc="-1" strike="noStrike">
                <a:solidFill>
                  <a:srgbClr val="000000"/>
                </a:solidFill>
                <a:latin typeface="Berlin Sans FB"/>
              </a:rPr>
              <a:t>Mrs. Swath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ea typeface="Arial"/>
              </a:rPr>
              <a:t>DFD LEVEL1 FOR ORGANIZER</a:t>
            </a:r>
            <a:endParaRPr b="0" lang="en-US" sz="3100" spc="-1" strike="noStrike">
              <a:solidFill>
                <a:srgbClr val="575f6d"/>
              </a:solidFill>
              <a:latin typeface="Century Schoolbook"/>
            </a:endParaRPr>
          </a:p>
        </p:txBody>
      </p:sp>
      <p:sp>
        <p:nvSpPr>
          <p:cNvPr id="7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Picture 3" descr="C:\Documents and Settings\Administrator\Desktop\graphical\3.JPG"/>
          <p:cNvPicPr/>
          <p:nvPr/>
        </p:nvPicPr>
        <p:blipFill>
          <a:blip r:embed="rId1"/>
          <a:srcRect l="21939" t="33652" r="13491" b="30310"/>
          <a:stretch/>
        </p:blipFill>
        <p:spPr>
          <a:xfrm>
            <a:off x="990720" y="1676520"/>
            <a:ext cx="6248160" cy="372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0"/>
            <a:ext cx="81532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 </a:t>
            </a:r>
            <a:br>
              <a:rPr sz="2700"/>
            </a:br>
            <a:r>
              <a:rPr b="0" lang="en-US" sz="2700" spc="-1" strike="noStrike" u="sng">
                <a:solidFill>
                  <a:srgbClr val="000000"/>
                </a:solidFill>
                <a:uFillTx/>
                <a:latin typeface="Arial"/>
                <a:ea typeface="Arial"/>
              </a:rPr>
              <a:t>UML DIAGRAMS</a:t>
            </a:r>
            <a:br>
              <a:rPr sz="2700"/>
            </a:br>
            <a:r>
              <a:rPr b="0" lang="en-US" sz="2700" spc="-1" strike="noStrike" u="sng">
                <a:solidFill>
                  <a:srgbClr val="000000"/>
                </a:solidFill>
                <a:uFillTx/>
                <a:latin typeface="Arial"/>
                <a:ea typeface="Arial"/>
              </a:rPr>
              <a:t>CLASS DIAGRAM</a:t>
            </a:r>
            <a:endParaRPr b="0" lang="en-US" sz="2700" spc="-1" strike="noStrike">
              <a:solidFill>
                <a:srgbClr val="575f6d"/>
              </a:solidFill>
              <a:latin typeface="Century Schoolbook"/>
            </a:endParaRPr>
          </a:p>
        </p:txBody>
      </p:sp>
      <p:pic>
        <p:nvPicPr>
          <p:cNvPr id="717" name="Picture 4" descr=""/>
          <p:cNvPicPr/>
          <p:nvPr/>
        </p:nvPicPr>
        <p:blipFill>
          <a:blip r:embed="rId1"/>
          <a:stretch/>
        </p:blipFill>
        <p:spPr>
          <a:xfrm>
            <a:off x="990720" y="2286000"/>
            <a:ext cx="693720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USE CASE DIAGRAM</a:t>
            </a:r>
            <a:br>
              <a:rPr sz="2200"/>
            </a:br>
            <a:endParaRPr b="0" lang="en-US" sz="2200" spc="-1" strike="noStrike">
              <a:solidFill>
                <a:srgbClr val="575f6d"/>
              </a:solidFill>
              <a:latin typeface="Century Schoolbook"/>
            </a:endParaRPr>
          </a:p>
        </p:txBody>
      </p:sp>
      <p:pic>
        <p:nvPicPr>
          <p:cNvPr id="719" name="Picture 7" descr=""/>
          <p:cNvPicPr/>
          <p:nvPr/>
        </p:nvPicPr>
        <p:blipFill>
          <a:blip r:embed="rId1"/>
          <a:stretch/>
        </p:blipFill>
        <p:spPr>
          <a:xfrm>
            <a:off x="1905120" y="2209680"/>
            <a:ext cx="543240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QUENCE DIAGRAM</a:t>
            </a:r>
            <a:br>
              <a:rPr sz="4400"/>
            </a:br>
            <a:endParaRPr b="0" lang="en-US" sz="4400" spc="-1" strike="noStrike">
              <a:solidFill>
                <a:srgbClr val="000000"/>
              </a:solidFill>
              <a:latin typeface="Calibri"/>
            </a:endParaRPr>
          </a:p>
        </p:txBody>
      </p:sp>
      <p:sp>
        <p:nvSpPr>
          <p:cNvPr id="7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2" name="Picture 10" descr=""/>
          <p:cNvPicPr/>
          <p:nvPr/>
        </p:nvPicPr>
        <p:blipFill>
          <a:blip r:embed="rId1"/>
          <a:stretch/>
        </p:blipFill>
        <p:spPr>
          <a:xfrm>
            <a:off x="1600200" y="1219320"/>
            <a:ext cx="563868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ABORATION DIAGRAM</a:t>
            </a:r>
            <a:endParaRPr b="0" lang="en-US" sz="4400" spc="-1" strike="noStrike">
              <a:solidFill>
                <a:srgbClr val="000000"/>
              </a:solidFill>
              <a:latin typeface="Calibri"/>
            </a:endParaRPr>
          </a:p>
        </p:txBody>
      </p:sp>
      <p:pic>
        <p:nvPicPr>
          <p:cNvPr id="724" name="Picture 13" descr=""/>
          <p:cNvPicPr/>
          <p:nvPr/>
        </p:nvPicPr>
        <p:blipFill>
          <a:blip r:embed="rId1"/>
          <a:stretch/>
        </p:blipFill>
        <p:spPr>
          <a:xfrm>
            <a:off x="2286000" y="1143000"/>
            <a:ext cx="4640400" cy="495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Rectangle 5" descr=""/>
          <p:cNvPicPr/>
          <p:nvPr/>
        </p:nvPicPr>
        <p:blipFill>
          <a:blip r:embed="rId1"/>
          <a:stretch/>
        </p:blipFill>
        <p:spPr>
          <a:xfrm>
            <a:off x="1122480" y="1731960"/>
            <a:ext cx="7021440" cy="25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6" descr=""/>
          <p:cNvPicPr/>
          <p:nvPr/>
        </p:nvPicPr>
        <p:blipFill>
          <a:blip r:embed="rId1"/>
          <a:stretch/>
        </p:blipFill>
        <p:spPr>
          <a:xfrm>
            <a:off x="1295280" y="304920"/>
            <a:ext cx="6705720" cy="610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22" descr=""/>
          <p:cNvPicPr/>
          <p:nvPr/>
        </p:nvPicPr>
        <p:blipFill>
          <a:blip r:embed="rId1"/>
          <a:stretch/>
        </p:blipFill>
        <p:spPr>
          <a:xfrm>
            <a:off x="609480" y="304920"/>
            <a:ext cx="6400800" cy="589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31" descr=""/>
          <p:cNvPicPr/>
          <p:nvPr/>
        </p:nvPicPr>
        <p:blipFill>
          <a:blip r:embed="rId1"/>
          <a:stretch/>
        </p:blipFill>
        <p:spPr>
          <a:xfrm>
            <a:off x="1219320" y="762120"/>
            <a:ext cx="6315120" cy="487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34" descr=""/>
          <p:cNvPicPr/>
          <p:nvPr/>
        </p:nvPicPr>
        <p:blipFill>
          <a:blip r:embed="rId1"/>
          <a:stretch/>
        </p:blipFill>
        <p:spPr>
          <a:xfrm>
            <a:off x="1523880" y="1219320"/>
            <a:ext cx="6662880" cy="46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BSTRACT</a:t>
            </a:r>
            <a:br>
              <a:rPr sz="3000"/>
            </a:br>
            <a:endParaRPr b="0" lang="en-US" sz="3000" spc="-1" strike="noStrike">
              <a:solidFill>
                <a:srgbClr val="575f6d"/>
              </a:solidFill>
              <a:latin typeface="Century Schoolbook"/>
            </a:endParaRPr>
          </a:p>
        </p:txBody>
      </p:sp>
      <p:sp>
        <p:nvSpPr>
          <p:cNvPr id="696" name=""/>
          <p:cNvSpPr txBox="1"/>
          <p:nvPr/>
        </p:nvSpPr>
        <p:spPr>
          <a:xfrm>
            <a:off x="456840" y="1066680"/>
            <a:ext cx="7467480" cy="5407200"/>
          </a:xfrm>
          <a:prstGeom prst="rect">
            <a:avLst/>
          </a:prstGeom>
          <a:noFill/>
          <a:ln w="0">
            <a:noFill/>
          </a:ln>
        </p:spPr>
        <p:txBody>
          <a:bodyPr anchor="t">
            <a:normAutofit fontScale="98000"/>
          </a:bodyPr>
          <a:p>
            <a:pPr marL="267120" indent="-267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A speculator on a Stock Market, aside from having money to spare, needs at least one other thing — a means of producing accurate and understandable predictions ahead of others in the Market, so that a tactical and price advantage can be gained. This work demonstrates that it is possible to predict one such Market to a high degree of accuracy. To measure percentage accuracy, each individual test case prediction was compared with the actual market outcome, and total percentage accuracy for the whole test set was similarly calculated. Comparisons were also drawn with predictions for the same test cases using four types of Multiple Linear Regress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37" descr=""/>
          <p:cNvPicPr/>
          <p:nvPr/>
        </p:nvPicPr>
        <p:blipFill>
          <a:blip r:embed="rId1"/>
          <a:stretch/>
        </p:blipFill>
        <p:spPr>
          <a:xfrm>
            <a:off x="914400" y="304920"/>
            <a:ext cx="6400800" cy="621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0" descr=""/>
          <p:cNvPicPr/>
          <p:nvPr/>
        </p:nvPicPr>
        <p:blipFill>
          <a:blip r:embed="rId1"/>
          <a:stretch/>
        </p:blipFill>
        <p:spPr>
          <a:xfrm>
            <a:off x="1143000" y="380880"/>
            <a:ext cx="6553080" cy="599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43" descr=""/>
          <p:cNvPicPr/>
          <p:nvPr/>
        </p:nvPicPr>
        <p:blipFill>
          <a:blip r:embed="rId1"/>
          <a:stretch/>
        </p:blipFill>
        <p:spPr>
          <a:xfrm>
            <a:off x="685800" y="838080"/>
            <a:ext cx="761040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49" descr=""/>
          <p:cNvPicPr/>
          <p:nvPr/>
        </p:nvPicPr>
        <p:blipFill>
          <a:blip r:embed="rId1"/>
          <a:stretch/>
        </p:blipFill>
        <p:spPr>
          <a:xfrm>
            <a:off x="838080" y="228600"/>
            <a:ext cx="6019920" cy="623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52" descr=""/>
          <p:cNvPicPr/>
          <p:nvPr/>
        </p:nvPicPr>
        <p:blipFill>
          <a:blip r:embed="rId1"/>
          <a:stretch/>
        </p:blipFill>
        <p:spPr>
          <a:xfrm>
            <a:off x="1295280" y="914400"/>
            <a:ext cx="5362560" cy="50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55" descr=""/>
          <p:cNvPicPr/>
          <p:nvPr/>
        </p:nvPicPr>
        <p:blipFill>
          <a:blip r:embed="rId1"/>
          <a:stretch/>
        </p:blipFill>
        <p:spPr>
          <a:xfrm>
            <a:off x="838080" y="304920"/>
            <a:ext cx="6096240" cy="3235320"/>
          </a:xfrm>
          <a:prstGeom prst="rect">
            <a:avLst/>
          </a:prstGeom>
          <a:ln w="0">
            <a:noFill/>
          </a:ln>
        </p:spPr>
      </p:pic>
      <p:pic>
        <p:nvPicPr>
          <p:cNvPr id="736" name="Picture 58" descr=""/>
          <p:cNvPicPr/>
          <p:nvPr/>
        </p:nvPicPr>
        <p:blipFill>
          <a:blip r:embed="rId2"/>
          <a:stretch/>
        </p:blipFill>
        <p:spPr>
          <a:xfrm>
            <a:off x="762120" y="3657600"/>
            <a:ext cx="6172200" cy="290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73" descr=""/>
          <p:cNvPicPr/>
          <p:nvPr/>
        </p:nvPicPr>
        <p:blipFill>
          <a:blip r:embed="rId1"/>
          <a:stretch/>
        </p:blipFill>
        <p:spPr>
          <a:xfrm>
            <a:off x="380880" y="0"/>
            <a:ext cx="4640400" cy="3127320"/>
          </a:xfrm>
          <a:prstGeom prst="rect">
            <a:avLst/>
          </a:prstGeom>
          <a:ln w="0">
            <a:noFill/>
          </a:ln>
        </p:spPr>
      </p:pic>
      <p:pic>
        <p:nvPicPr>
          <p:cNvPr id="738" name="Picture 76" descr=""/>
          <p:cNvPicPr/>
          <p:nvPr/>
        </p:nvPicPr>
        <p:blipFill>
          <a:blip r:embed="rId2"/>
          <a:stretch/>
        </p:blipFill>
        <p:spPr>
          <a:xfrm>
            <a:off x="3657600" y="3436920"/>
            <a:ext cx="4583160" cy="34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112" descr=""/>
          <p:cNvPicPr/>
          <p:nvPr/>
        </p:nvPicPr>
        <p:blipFill>
          <a:blip r:embed="rId1"/>
          <a:stretch/>
        </p:blipFill>
        <p:spPr>
          <a:xfrm>
            <a:off x="1447920" y="1295280"/>
            <a:ext cx="5949720" cy="4459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ING</a:t>
            </a:r>
            <a:endParaRPr b="0" lang="en-US" sz="4400" spc="-1" strike="noStrike">
              <a:solidFill>
                <a:srgbClr val="000000"/>
              </a:solidFill>
              <a:latin typeface="Calibri"/>
            </a:endParaRPr>
          </a:p>
        </p:txBody>
      </p:sp>
      <p:sp>
        <p:nvSpPr>
          <p:cNvPr id="741" name="PlaceHolder 2"/>
          <p:cNvSpPr>
            <a:spLocks noGrp="1"/>
          </p:cNvSpPr>
          <p:nvPr>
            <p:ph type="subTitle"/>
          </p:nvPr>
        </p:nvSpPr>
        <p:spPr>
          <a:xfrm>
            <a:off x="1295280" y="25909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nit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tegration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Validation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ystem tes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3352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IT TESTING:</a:t>
            </a:r>
            <a:br>
              <a:rPr sz="2800"/>
            </a:br>
            <a:r>
              <a:rPr b="0" lang="en-US" sz="2800" spc="-1" strike="noStrike">
                <a:solidFill>
                  <a:srgbClr val="000000"/>
                </a:solidFill>
                <a:latin typeface="Calibri"/>
              </a:rPr>
              <a:t>               It concentrates on each unit of the software as implemented in source code and is a white box oriented. Using the component level design description as a guide, important control paths are tested to uncover errors within the boundary of the module. In the unit testing,</a:t>
            </a:r>
            <a:br>
              <a:rPr sz="2800"/>
            </a:br>
            <a:r>
              <a:rPr b="0" lang="en-US" sz="2800" spc="-1" strike="noStrike">
                <a:solidFill>
                  <a:srgbClr val="000000"/>
                </a:solidFill>
                <a:latin typeface="Calibri"/>
              </a:rPr>
              <a:t>The step can be conducted in parallel for multiple component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0" y="914400"/>
            <a:ext cx="815328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Aharoni"/>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intaining the data of Stock Market manually is very difficult where we deal with huge amount of data and the data will be changing frequently depending upon the share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ewing of the required data is also a big problem and end-user will not get the clear idea about the flow of the system.</a:t>
            </a:r>
            <a:endParaRPr b="0" lang="en-US" sz="2400" spc="-1" strike="noStrike">
              <a:solidFill>
                <a:srgbClr val="000000"/>
              </a:solidFill>
              <a:latin typeface="Century Schoolbook"/>
            </a:endParaRPr>
          </a:p>
        </p:txBody>
      </p:sp>
      <p:sp>
        <p:nvSpPr>
          <p:cNvPr id="698" name="TextBox 4"/>
          <p:cNvSpPr/>
          <p:nvPr/>
        </p:nvSpPr>
        <p:spPr>
          <a:xfrm>
            <a:off x="380880" y="22860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EXIST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Box 1"/>
          <p:cNvSpPr/>
          <p:nvPr/>
        </p:nvSpPr>
        <p:spPr>
          <a:xfrm>
            <a:off x="762120" y="380880"/>
            <a:ext cx="769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2"/>
          <p:cNvSpPr/>
          <p:nvPr/>
        </p:nvSpPr>
        <p:spPr>
          <a:xfrm>
            <a:off x="304920" y="1384200"/>
            <a:ext cx="8076960" cy="2836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Unicode MS"/>
              </a:rPr>
              <a:t>INTEGRATION TE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Unicode MS"/>
              </a:rPr>
              <a:t>   </a:t>
            </a:r>
            <a:r>
              <a:rPr b="0" lang="en-US" sz="1800" spc="-1" strike="noStrike">
                <a:solidFill>
                  <a:srgbClr val="000000"/>
                </a:solidFill>
                <a:latin typeface="Calibri"/>
                <a:ea typeface="Arial Unicode MS"/>
              </a:rPr>
              <a:t>Here focus is on design and construction of the software architectu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Unicode MS"/>
              </a:rPr>
              <a:t>Integration testing is a systematic technique for constructing the program structure while at the same time conducting tests to uncover errors associated with interfac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Unicode MS"/>
              </a:rPr>
              <a:t>The objective is to take unit tested components and build a program structure that has been dictated by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Box 1"/>
          <p:cNvSpPr/>
          <p:nvPr/>
        </p:nvSpPr>
        <p:spPr>
          <a:xfrm>
            <a:off x="762120" y="914400"/>
            <a:ext cx="71625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is, requirements established as part of software requirements analysis are validated against the software that has been constructed i.e., validation succeeds when software functions in a manner that can reasonably expected by the custo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n this software and other system elements are tested as a w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Title 1" descr=""/>
          <p:cNvPicPr/>
          <p:nvPr/>
        </p:nvPicPr>
        <p:blipFill>
          <a:blip r:embed="rId1"/>
          <a:stretch/>
        </p:blipFill>
        <p:spPr>
          <a:xfrm>
            <a:off x="450720" y="-6480"/>
            <a:ext cx="8242560" cy="1158840"/>
          </a:xfrm>
          <a:prstGeom prst="rect">
            <a:avLst/>
          </a:prstGeom>
          <a:ln w="0">
            <a:noFill/>
          </a:ln>
        </p:spPr>
      </p:pic>
      <p:sp>
        <p:nvSpPr>
          <p:cNvPr id="747" name=""/>
          <p:cNvSpPr txBox="1"/>
          <p:nvPr/>
        </p:nvSpPr>
        <p:spPr>
          <a:xfrm>
            <a:off x="228240" y="1219320"/>
            <a:ext cx="8915400" cy="54864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the users in the organization have appreciated the projec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is easy to use, since it uses the </a:t>
            </a:r>
            <a:r>
              <a:rPr b="1" lang="en-US" sz="2800" spc="-1" strike="noStrike">
                <a:solidFill>
                  <a:srgbClr val="ffffff"/>
                </a:solidFill>
                <a:latin typeface="Book Antiqua"/>
              </a:rPr>
              <a:t>GUI</a:t>
            </a:r>
            <a:r>
              <a:rPr b="0" lang="en-US" sz="2800" spc="-1" strike="noStrike">
                <a:solidFill>
                  <a:srgbClr val="ffffff"/>
                </a:solidFill>
                <a:latin typeface="Book Antiqua"/>
              </a:rPr>
              <a:t> provided in the user dialo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r-friendly screens are provid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sage of software increases the efficiency, decreases the effor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has been thoroughly tested and implemented.</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Rectangle 3" descr=""/>
          <p:cNvPicPr/>
          <p:nvPr/>
        </p:nvPicPr>
        <p:blipFill>
          <a:blip r:embed="rId1"/>
          <a:stretch/>
        </p:blipFill>
        <p:spPr>
          <a:xfrm>
            <a:off x="1805040" y="2571840"/>
            <a:ext cx="5072040" cy="181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3" descr="C:\Users\vysh\Desktop\Thank You_112508a.JPG"/>
          <p:cNvPicPr/>
          <p:nvPr/>
        </p:nvPicPr>
        <p:blipFill>
          <a:blip r:embed="rId1"/>
          <a:stretch/>
        </p:blipFill>
        <p:spPr>
          <a:xfrm>
            <a:off x="1371600" y="609480"/>
            <a:ext cx="5791320" cy="3786480"/>
          </a:xfrm>
          <a:prstGeom prst="rect">
            <a:avLst/>
          </a:prstGeom>
          <a:ln w="0">
            <a:noFill/>
          </a:ln>
        </p:spPr>
      </p:pic>
      <p:sp>
        <p:nvSpPr>
          <p:cNvPr id="750" name="TextBox 4"/>
          <p:cNvSpPr/>
          <p:nvPr/>
        </p:nvSpPr>
        <p:spPr>
          <a:xfrm>
            <a:off x="5941440" y="4800600"/>
            <a:ext cx="265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V.SRIKARAN RED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VARSHA  NIHA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1"/>
          <p:cNvSpPr/>
          <p:nvPr/>
        </p:nvSpPr>
        <p:spPr>
          <a:xfrm>
            <a:off x="405000" y="685800"/>
            <a:ext cx="396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POSED SYSTEM :</a:t>
            </a:r>
            <a:endParaRPr b="0" lang="en-US" sz="2800" spc="-1" strike="noStrike">
              <a:solidFill>
                <a:srgbClr val="000000"/>
              </a:solidFill>
              <a:latin typeface="Arial"/>
            </a:endParaRPr>
          </a:p>
        </p:txBody>
      </p:sp>
      <p:sp>
        <p:nvSpPr>
          <p:cNvPr id="700" name="TextBox 2"/>
          <p:cNvSpPr/>
          <p:nvPr/>
        </p:nvSpPr>
        <p:spPr>
          <a:xfrm>
            <a:off x="609480" y="2057400"/>
            <a:ext cx="7086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lay person, or a Stock-Market speculator, it was also shown that predictions can be produced to a high level of accuracy, in a readily understandable format. This application is totally integrated system with different sub systems like multi user Security, financial module integration. For now the software has the Organizer and Trader mo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is trade information’s are captured in the tables. The data from the master tables are displayed in different formats using reports as part of daily information to the clients who trade with the Stock brokers. Design and Development of Client, Organizer, Reports mod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DULES:</a:t>
            </a:r>
            <a:br>
              <a:rPr sz="3000"/>
            </a:br>
            <a:endParaRPr b="0" lang="en-US" sz="3000" spc="-1" strike="noStrike">
              <a:solidFill>
                <a:srgbClr val="575f6d"/>
              </a:solidFill>
              <a:latin typeface="Century Schoolbook"/>
            </a:endParaRPr>
          </a:p>
        </p:txBody>
      </p:sp>
      <p:sp>
        <p:nvSpPr>
          <p:cNvPr id="7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EN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RGANIZ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POR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ODULE DESCRIPTION</a:t>
            </a:r>
            <a:endParaRPr b="0" lang="en-US" sz="3000" spc="-1" strike="noStrike">
              <a:solidFill>
                <a:srgbClr val="575f6d"/>
              </a:solidFill>
              <a:latin typeface="Century Schoolbook"/>
            </a:endParaRPr>
          </a:p>
        </p:txBody>
      </p:sp>
      <p:sp>
        <p:nvSpPr>
          <p:cNvPr id="7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lien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Client can view his shares ups and downs by logging into his accou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Organiz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Organizer will decide the share where to invest what are their returns and maintains the full report of the incomes and outcomes of the shar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Repo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Reports will be generated based on the data of share stock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YSTEM SPECIFICATION</a:t>
            </a:r>
            <a:br>
              <a:rPr sz="3000"/>
            </a:br>
            <a:endParaRPr b="0" lang="en-US" sz="3000" spc="-1" strike="noStrike">
              <a:solidFill>
                <a:srgbClr val="575f6d"/>
              </a:solidFill>
              <a:latin typeface="Century Schoolbook"/>
            </a:endParaRPr>
          </a:p>
        </p:txBody>
      </p:sp>
      <p:sp>
        <p:nvSpPr>
          <p:cNvPr id="706" name=""/>
          <p:cNvSpPr txBox="1"/>
          <p:nvPr/>
        </p:nvSpPr>
        <p:spPr>
          <a:xfrm>
            <a:off x="0" y="1447560"/>
            <a:ext cx="8229600" cy="51814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OFTWARE SPECIFICATION</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NET</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ACK END:</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SQL  SERVER 2005</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ARDWARE SPECIFICATION</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rd disk            </a:t>
            </a:r>
            <a:r>
              <a:rPr b="0" lang="en-US" sz="2400" spc="-1" strike="noStrike">
                <a:solidFill>
                  <a:srgbClr val="000000"/>
                </a:solidFill>
                <a:latin typeface="Century Schoolbook"/>
              </a:rPr>
              <a:t>	</a:t>
            </a:r>
            <a:r>
              <a:rPr b="0" lang="en-US" sz="2400" spc="-1" strike="noStrike">
                <a:solidFill>
                  <a:srgbClr val="000000"/>
                </a:solidFill>
                <a:latin typeface="Century Schoolbook"/>
              </a:rPr>
              <a:t>  :   40 GB</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M                   </a:t>
            </a:r>
            <a:r>
              <a:rPr b="0" lang="en-US" sz="2400" spc="-1" strike="noStrike">
                <a:solidFill>
                  <a:srgbClr val="000000"/>
                </a:solidFill>
                <a:latin typeface="Century Schoolbook"/>
              </a:rPr>
              <a:t>	</a:t>
            </a:r>
            <a:r>
              <a:rPr b="0" lang="en-US" sz="2400" spc="-1" strike="noStrike">
                <a:solidFill>
                  <a:srgbClr val="000000"/>
                </a:solidFill>
                <a:latin typeface="Century Schoolbook"/>
              </a:rPr>
              <a:t>  :  256 MB or mor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cessor Speed    :  3.00GHz</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cessor           </a:t>
            </a:r>
            <a:r>
              <a:rPr b="0" lang="en-US" sz="2400" spc="-1" strike="noStrike">
                <a:solidFill>
                  <a:srgbClr val="000000"/>
                </a:solidFill>
                <a:latin typeface="Century Schoolbook"/>
              </a:rPr>
              <a:t>	</a:t>
            </a:r>
            <a:r>
              <a:rPr b="0" lang="en-US" sz="2400" spc="-1" strike="noStrike">
                <a:solidFill>
                  <a:srgbClr val="000000"/>
                </a:solidFill>
                <a:latin typeface="Century Schoolbook"/>
              </a:rPr>
              <a:t>  :  Pentium III Processor or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r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Rectangle 5" descr=""/>
          <p:cNvPicPr/>
          <p:nvPr/>
        </p:nvPicPr>
        <p:blipFill>
          <a:blip r:embed="rId1"/>
          <a:stretch/>
        </p:blipFill>
        <p:spPr>
          <a:xfrm>
            <a:off x="-304920" y="208080"/>
            <a:ext cx="7632720" cy="1931760"/>
          </a:xfrm>
          <a:prstGeom prst="rect">
            <a:avLst/>
          </a:prstGeom>
          <a:ln w="0">
            <a:noFill/>
          </a:ln>
        </p:spPr>
      </p:pic>
      <p:pic>
        <p:nvPicPr>
          <p:cNvPr id="709" name="Picture 2" descr="C:\Documents and Settings\Administrator\Desktop\graphical\2.JPG"/>
          <p:cNvPicPr/>
          <p:nvPr/>
        </p:nvPicPr>
        <p:blipFill>
          <a:blip r:embed="rId2"/>
          <a:srcRect l="18300" t="24705" r="15580" b="16299"/>
          <a:stretch/>
        </p:blipFill>
        <p:spPr>
          <a:xfrm>
            <a:off x="1676520" y="2743200"/>
            <a:ext cx="4956120" cy="2776680"/>
          </a:xfrm>
          <a:prstGeom prst="rect">
            <a:avLst/>
          </a:prstGeom>
          <a:ln w="0">
            <a:noFill/>
          </a:ln>
        </p:spPr>
      </p:pic>
      <p:sp>
        <p:nvSpPr>
          <p:cNvPr id="710" name="TextBox 6"/>
          <p:cNvSpPr/>
          <p:nvPr/>
        </p:nvSpPr>
        <p:spPr>
          <a:xfrm>
            <a:off x="923400" y="205740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D Level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36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rial"/>
                <a:ea typeface="Arial"/>
              </a:rPr>
              <a:t>DFD Level1 for customer</a:t>
            </a:r>
            <a:endParaRPr b="0" lang="en-US" sz="3300" spc="-1" strike="noStrike">
              <a:solidFill>
                <a:srgbClr val="000000"/>
              </a:solidFill>
              <a:latin typeface="Calibri"/>
            </a:endParaRPr>
          </a:p>
        </p:txBody>
      </p:sp>
      <p:pic>
        <p:nvPicPr>
          <p:cNvPr id="712" name="Picture 1" descr="C:\Documents and Settings\Administrator\Desktop\graphical\1.JPG"/>
          <p:cNvPicPr/>
          <p:nvPr/>
        </p:nvPicPr>
        <p:blipFill>
          <a:blip r:embed="rId1"/>
          <a:srcRect l="14118" t="28100" r="11782" b="17977"/>
          <a:stretch/>
        </p:blipFill>
        <p:spPr>
          <a:xfrm>
            <a:off x="873000" y="1600200"/>
            <a:ext cx="65818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07:29:40Z</dcterms:created>
  <dc:creator>sravi</dc:creator>
  <dc:description/>
  <dc:language>en-US</dc:language>
  <cp:lastModifiedBy>SUKANYA</cp:lastModifiedBy>
  <dcterms:modified xsi:type="dcterms:W3CDTF">2011-04-08T06:08:36Z</dcterms:modified>
  <cp:revision>85</cp:revision>
  <dc:subject/>
  <dc:title>Optimal State  Allocation                       for  Multicast Communications  with  Explicit       Multicast  Forwarding</dc:title>
</cp:coreProperties>
</file>